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C7F8-A3DD-44A7-A78B-EC6CD4B4A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9456-51D6-4BF5-92AD-314EEB125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5B85-012C-42C7-ACDC-D7AB5D1E9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D70A-43FF-45FA-A90E-7168DDCCB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4783-2447-4EB9-99D6-6BC506F5C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0684-6D90-4DBA-83BD-24C66F7B2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029F-0294-49AB-BBDA-4E05E28F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0767-A324-48D0-BD99-CE702AFB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72FF-7A6D-41D8-BC29-17005AAD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FA95-D794-4D31-B05A-5007990B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6B06-50B1-40AD-9FC8-B9C60AFB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DA90-4E93-4D82-81EF-D633C2D0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CDAE-1983-4DA7-B796-BB6D2608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3499-EBEC-4C06-9787-CCDCFF55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4216-63F2-44B1-9460-0757E1D8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8D38-82F1-4A1E-A841-1575132C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4A3D-F31A-424A-9D13-2F3391F8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D007-9D4A-4346-9E83-EB64A468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54E0-B8B9-406A-9233-635D1E62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3A6A-55D0-4A1B-8747-543A78AD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60FE-BD81-4BB9-9D5B-6A1D9506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0D7E-56B0-4477-8121-8E7F99E7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FBD6-394B-4590-AF4D-69F21DBA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D49BD-433A-4EB9-BA89-A20D41F2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757BD-1BE2-48E4-8A6C-76538F07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732B7-105B-49B8-A1BB-FD31EEC7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19561-5467-4F8D-8B8C-CF1B93C3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F6BB7-0714-4139-AA49-B05C846B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E67C-83BB-4EEE-8B3D-5FAFDAEB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BE778-2A78-4D62-9183-B3645098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3FAEA-EA7D-4197-9F2E-AC6667C4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B975C-FB11-4DBB-BE6D-C1BFC520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CA90D-B860-4CE2-A5BB-0B01B9C3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CECE5-8A16-47C7-A30E-A21639FB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73EF4-42A0-4DF7-9AC6-97CD066D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9B130-A5E0-4CBE-A144-48DDD272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1B4B7-79AF-4F6C-BFB1-2DEA711E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2DD4C-363B-4D11-A0FC-0D063658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1714A-4457-4B02-AF4E-FEFD5560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184E-EE0A-4490-89F5-34E2E484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F61FA-E93A-4E34-857C-DB9FAA35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82D68-18B0-495C-A7FE-08855FB6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CB967-3EF0-44F7-8310-EE93AAFC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E3455-9AF1-4FEA-B232-DF56E5E7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02558-A07E-4E31-B6A9-039E8E0E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BB587-0D94-4BAC-A578-91CD8CC1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9C1E2-2E3A-463D-94C8-3698CA79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CA05D-5113-4F9A-BC16-BFB285A2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A77D4-8947-4E75-9EEC-42148E7B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D8B93-3F86-45F6-8BF6-A749CE6F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3C13-4A7F-4698-9F16-3A788C42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9FF83-2312-43D9-BE3C-0B71087F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6C4C5-22C7-4017-9D0D-52EA58E4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8B7F8-3F54-4F02-94FB-172FCD5A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0BABF-E9A2-4C14-BEB7-7945E2E9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05B9A-90CC-448D-B214-C65595B3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2E429-A9C4-4CBF-8C91-97A00CEC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D48F8-0791-4892-B5E8-D4EC4139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38180-16DF-4F81-AF82-2A577A50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8D605-21E3-4D51-AB3F-6299A18C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FD59C-052B-46CC-948A-7F0568EB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561E-332A-47EC-A45D-DB6B6F29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31710-D436-46BB-BB29-DAB2D433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4A5CF-3CD4-43A6-868E-A97EFE66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9D9D8-1BAE-4495-8D05-546DD01E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D0071-E339-4E3E-968E-CB87DEF8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85CBA-01CA-49AD-BBDD-1D7BC84C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1AA91-DEC6-4077-B538-ED0A00F0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63481-44D6-4209-995A-BB5F96C2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BB642-3939-44C1-83F2-B58CF3E4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E1F3D-89EC-4127-8454-26F2D555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34B91-3810-4426-A131-77942A69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0824-B206-429D-ACBF-24BA4798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F5218-0224-4CBA-87A1-E1C58839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C2E84-564B-4B2B-BE77-01C371B5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47D03-63D7-4396-B127-FE25BB68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ACDD9-AA53-4132-A21C-9C786A09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6B774-802A-48A7-9CCD-2C4784DF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F23C6-CA9C-43AE-90DE-4C190DF0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24DB7-CF7B-4B81-B4D9-69DD5AFA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99910-B536-4227-9BCA-F0555B71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61887-5F5D-47A2-9FB7-1DDD51C4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A44C6-2E6C-459A-AAF3-6C52A8D4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2C22-6485-4FA2-9E0B-F3B07239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431F8-4BAE-46DA-9BD0-D13DA417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BCB90-8089-4A0A-95EB-C137D542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AE502-53AE-4573-A3B0-905CCA3E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DC2AD-AC4E-4832-8726-E86EA530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1A3A2-299B-457F-BDE8-B2ED97FB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51377-3C8E-4FAC-9A47-834BD30F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4BBC4-F266-44E1-81AE-8D6C1B10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7CE28-9DBE-431B-AD39-28DDD7BD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1E429-242B-4810-9A8A-7CC2EC57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BC902-44E4-4E78-BBB1-C4E66203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94A3-6839-4C2C-82D9-F5BF42B1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B3083-2680-4892-9C36-446DA9C0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12F07-3AC0-4395-B121-76CCF6B7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E3B82-89FE-4A95-9DC1-DF6CA400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73FBA-1E61-49E9-9DCE-081BB613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248EF-131C-4A3D-8062-D5CEF316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0A200-ECF4-4EB8-8103-2579C4B7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13CC3-3544-4FB5-85C2-47C4205B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9E04-ACE3-4304-8B1F-A42DAE077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2457-E14F-4363-8403-64836A08158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2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97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95F1-834F-44E7-80EB-AF2AED9A3D6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4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8365-10DD-4BDC-8105-970C727FF04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31A9-B6E6-4167-A582-58E320AB50E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F6E1-B653-49CD-AE2A-046AFA5915F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017E-F0D7-4F8A-9252-542AD7993C9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14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70D3-3B0C-47AB-83FF-4AF96D4D08D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47560" y="1218960"/>
            <a:ext cx="740700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ots List #5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                   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unior Vocabul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racy, Crat, Crati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ule; government; powe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1640" y="1599840"/>
            <a:ext cx="4724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tocracy/Autocrat/Autocrati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mocrac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ristocr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lutocrat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(pluto=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ealth; wealthy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eocrat/ theocrati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1" name="Picture 6" descr="autocrat.jpg"/>
          <p:cNvPicPr/>
          <p:nvPr/>
        </p:nvPicPr>
        <p:blipFill>
          <a:blip r:embed="rId2"/>
          <a:stretch/>
        </p:blipFill>
        <p:spPr>
          <a:xfrm>
            <a:off x="1219320" y="28954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democracy.jpg"/>
          <p:cNvPicPr/>
          <p:nvPr/>
        </p:nvPicPr>
        <p:blipFill>
          <a:blip r:embed="rId3"/>
          <a:stretch/>
        </p:blipFill>
        <p:spPr>
          <a:xfrm>
            <a:off x="7086600" y="152280"/>
            <a:ext cx="1905120" cy="15242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democracyy.jpg"/>
          <p:cNvPicPr/>
          <p:nvPr/>
        </p:nvPicPr>
        <p:blipFill>
          <a:blip r:embed="rId4"/>
          <a:stretch/>
        </p:blipFill>
        <p:spPr>
          <a:xfrm>
            <a:off x="3276720" y="5029200"/>
            <a:ext cx="2057400" cy="144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red, Credi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elief; trust; faith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redib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redito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redo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reden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credib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7" name="Picture 6" descr="credit.jpg"/>
          <p:cNvPicPr/>
          <p:nvPr/>
        </p:nvPicPr>
        <p:blipFill>
          <a:blip r:embed="rId2"/>
          <a:stretch/>
        </p:blipFill>
        <p:spPr>
          <a:xfrm>
            <a:off x="4191120" y="518148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creditor.jpg"/>
          <p:cNvPicPr/>
          <p:nvPr/>
        </p:nvPicPr>
        <p:blipFill>
          <a:blip r:embed="rId3"/>
          <a:stretch/>
        </p:blipFill>
        <p:spPr>
          <a:xfrm>
            <a:off x="6858000" y="152280"/>
            <a:ext cx="1800360" cy="13716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incredible.jpg"/>
          <p:cNvPicPr/>
          <p:nvPr/>
        </p:nvPicPr>
        <p:blipFill>
          <a:blip r:embed="rId4"/>
          <a:stretch/>
        </p:blipFill>
        <p:spPr>
          <a:xfrm>
            <a:off x="1752480" y="3276720"/>
            <a:ext cx="2057400" cy="17524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ncredibles.jpg"/>
          <p:cNvPicPr/>
          <p:nvPr/>
        </p:nvPicPr>
        <p:blipFill>
          <a:blip r:embed="rId5"/>
          <a:stretch/>
        </p:blipFill>
        <p:spPr>
          <a:xfrm>
            <a:off x="6858000" y="4572000"/>
            <a:ext cx="2286000" cy="1752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o remove or undo; away from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capitate (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capit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= the head or head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du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hydr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por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stro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scen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4" name="Picture 6" descr="deport.jpg"/>
          <p:cNvPicPr/>
          <p:nvPr/>
        </p:nvPicPr>
        <p:blipFill>
          <a:blip r:embed="rId2"/>
          <a:stretch/>
        </p:blipFill>
        <p:spPr>
          <a:xfrm>
            <a:off x="6781680" y="0"/>
            <a:ext cx="2171880" cy="19810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deduct.jpg"/>
          <p:cNvPicPr/>
          <p:nvPr/>
        </p:nvPicPr>
        <p:blipFill>
          <a:blip r:embed="rId3"/>
          <a:stretch/>
        </p:blipFill>
        <p:spPr>
          <a:xfrm>
            <a:off x="3657600" y="5029200"/>
            <a:ext cx="1628640" cy="16002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dehydrate.jpg"/>
          <p:cNvPicPr/>
          <p:nvPr/>
        </p:nvPicPr>
        <p:blipFill>
          <a:blip r:embed="rId4"/>
          <a:stretch/>
        </p:blipFill>
        <p:spPr>
          <a:xfrm>
            <a:off x="1143000" y="3048120"/>
            <a:ext cx="2286000" cy="2133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2314"/>
                </a:solidFill>
                <a:latin typeface="Gill Sans MT"/>
              </a:rPr>
              <a:t>Dec, Deca, Decem, Deci, Decim, Decu</a:t>
            </a:r>
            <a:endParaRPr b="0" lang="en-US" sz="3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040" y="1600200"/>
            <a:ext cx="381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finition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n; a tenth par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ad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athl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ag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agra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ahedron 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hedro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face or surfac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ember 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ber=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onth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ili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ime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alogu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im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im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0" name="Picture 6" descr="decathlon.jpg"/>
          <p:cNvPicPr/>
          <p:nvPr/>
        </p:nvPicPr>
        <p:blipFill>
          <a:blip r:embed="rId2"/>
          <a:stretch/>
        </p:blipFill>
        <p:spPr>
          <a:xfrm>
            <a:off x="7238880" y="5105520"/>
            <a:ext cx="1590840" cy="14191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decalogue.jpg"/>
          <p:cNvPicPr/>
          <p:nvPr/>
        </p:nvPicPr>
        <p:blipFill>
          <a:blip r:embed="rId3"/>
          <a:stretch/>
        </p:blipFill>
        <p:spPr>
          <a:xfrm>
            <a:off x="3429000" y="487692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decagon.jpg"/>
          <p:cNvPicPr/>
          <p:nvPr/>
        </p:nvPicPr>
        <p:blipFill>
          <a:blip r:embed="rId4"/>
          <a:stretch/>
        </p:blipFill>
        <p:spPr>
          <a:xfrm>
            <a:off x="7391520" y="1600200"/>
            <a:ext cx="1409760" cy="12952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9" descr="decathlonn.jpg"/>
          <p:cNvPicPr/>
          <p:nvPr/>
        </p:nvPicPr>
        <p:blipFill>
          <a:blip r:embed="rId5"/>
          <a:stretch/>
        </p:blipFill>
        <p:spPr>
          <a:xfrm>
            <a:off x="1523880" y="5105520"/>
            <a:ext cx="1333800" cy="13428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0" descr="december.jpg"/>
          <p:cNvPicPr/>
          <p:nvPr/>
        </p:nvPicPr>
        <p:blipFill>
          <a:blip r:embed="rId6"/>
          <a:stretch/>
        </p:blipFill>
        <p:spPr>
          <a:xfrm>
            <a:off x="1447920" y="2514600"/>
            <a:ext cx="1600200" cy="2438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1" descr="decathlonnn.jpg"/>
          <p:cNvPicPr/>
          <p:nvPr/>
        </p:nvPicPr>
        <p:blipFill>
          <a:blip r:embed="rId7"/>
          <a:stretch/>
        </p:blipFill>
        <p:spPr>
          <a:xfrm>
            <a:off x="3505320" y="2514600"/>
            <a:ext cx="1371600" cy="1752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2-02T18:11:56Z</dcterms:modified>
  <cp:revision>22</cp:revision>
  <dc:subject/>
  <dc:title>Roots List #1</dc:title>
</cp:coreProperties>
</file>